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80A-5FE9-40B3-9726-1B971A6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761-BDD1-41B8-81F9-1D0B9C24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CD3-9D1F-4864-B15D-6C83F536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285-8AA5-4C80-B7DE-334C5CCB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E84-552E-4EAA-A472-F0BC3EF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37A-AEB3-416B-8B7E-6F980C5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B66-FD87-4D97-B439-F31F1841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44A-EF90-4B67-B156-48AA3ED3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14C-C0CA-4C95-AEAB-9FA797A5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E88-B1F0-4F61-9171-0BA119B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DBB-F08D-42B9-A853-A0B51EF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CEE-C301-4A34-B5F9-09C91395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60A-DDA9-4A61-AB5E-931A0EA5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140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eehuggerusa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globalwarming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how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ture.org.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ustainability.publicradio.o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5:31:11Z</dcterms:created>
  <dc:creator>ws13150</dc:creator>
  <dc:description/>
  <dc:language>en-US</dc:language>
  <cp:lastModifiedBy>ws13150</cp:lastModifiedBy>
  <dcterms:modified xsi:type="dcterms:W3CDTF">2010-05-19T15:36:08Z</dcterms:modified>
  <cp:revision>2</cp:revision>
  <dc:subject/>
  <dc:title>Slide 1</dc:title>
</cp:coreProperties>
</file>